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EF4-9D80-43D6-831A-0F1D845A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25E-0088-4ECA-BFBE-6B6DE3C9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0AC-6158-497C-B281-F3AA368E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2F3-5E33-4F64-9C95-6AE8D819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3827-E02F-43CC-977E-BDA49B65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05B5-8879-4424-AFD4-D1A1A3EA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177E-CF5A-44F4-9D02-668BD52C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4DBF-5F93-4995-8C6F-4A3060AE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550E-5661-4060-862F-6AB9A603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AE68-B36E-42FC-8BD5-F0D53ED2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A7EC-D330-454E-920F-8305911F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03E-6054-45FB-BB2F-1A9655DB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A3CB-3E1C-450E-9B4C-EFF4F155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7975-C07F-4729-82A0-7D3288D0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4195-19CE-4291-9C68-569DA3E8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2134-4593-4F7D-9D08-AB045878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82C1-6146-4182-8C73-3DCBC58B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D000F-7830-45E2-B44D-26D3CD61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6B5AA-DF50-49DC-B623-C18266F1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AD31-282D-4B98-8023-FBF1AE68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60F9A-3242-4D4A-B1F2-E12FE41D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A3398-C050-4E8F-BA05-72EE220F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C0F-ED57-4346-AB86-31942AAF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2DC8D-4D5A-4985-891A-6B61EFD9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0FC46-82D5-44EF-829F-297BCF01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1F13F-86D0-4B4D-9A63-68A37720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54035-B1CC-456F-8D09-C0C7AD25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C28C9-4B5D-4EFD-95D1-30064E64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25B0-1D8B-4EA6-A174-E0943DF2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27FF2-D6E2-487F-B796-EEF27EA2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DE011-946D-433B-BCD4-2B3ACA5A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953D6-3609-4413-B7B7-9ABEC081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E591D-44C6-4914-96C0-94572019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A58-33F2-451B-8B35-208B473B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88598-4454-43FA-9855-53B3D135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1C247-7501-41A4-8B65-45CC4010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17A24-C274-4878-8348-29B0ADB5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5B7C3-1B19-44E0-A642-A75C57BC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38282-5C91-4713-AD95-BBF53401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A6283-D351-40A7-A62A-1D635732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AC959-FB80-4A28-9DC9-A3F05BCF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02D1E-2FDB-412A-8693-12D41791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E224-DF81-4600-A519-DBB917E8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6B9-9EB7-425F-980D-67D9735E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CFD-D9D7-408E-B93C-B98F23BB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5D8-D77E-4DB6-A02E-819C343C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09D-0F4D-4AE7-B274-072D5F1D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374-2DF4-466A-A46A-ED463D07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6845-34E9-45DF-A7F9-CEAF6F3C1B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EFD4-DB59-42C9-B2FF-AE268E09B1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680E-81AA-45C1-B8E8-00C54BABB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8310-F093-4BED-B42A-37BE27CDB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17840"/>
            <a:ext cx="777240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20000"/>
                </a:solidFill>
                <a:latin typeface="Arial"/>
              </a:rPr>
              <a:t>Solving Equations</a:t>
            </a:r>
            <a:br>
              <a:rPr sz="6000"/>
            </a:br>
            <a:endParaRPr b="0" lang="en-US" sz="6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27432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00"/>
                </a:solidFill>
                <a:latin typeface="Times New Roman"/>
              </a:rPr>
              <a:t>Algebra 1</a:t>
            </a:r>
            <a:endParaRPr b="0" lang="en-US" sz="40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 spd="med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aeec8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4) Solve </a:t>
            </a:r>
            <a:r>
              <a:rPr b="1" i="1" lang="en-US" sz="4400" spc="-1" strike="noStrike">
                <a:solidFill>
                  <a:srgbClr val="996600"/>
                </a:solidFill>
                <a:latin typeface="Times New Roman"/>
              </a:rPr>
              <a:t>y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 + (-3) = 7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94200" y="12049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  </a:t>
            </a:r>
            <a:r>
              <a:rPr b="0" i="1" lang="en-US" sz="4400" spc="-1" strike="noStrike">
                <a:solidFill>
                  <a:srgbClr val="33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– 3  = 7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+ 3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 +3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y        = 10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10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+ (-3) = 7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44792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Draw “the river” to separate the equation into 2 sides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Eliminate the double sign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Add 3 to both sides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Simplify vertically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Check your answer by substituting your answer back into the problem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457200"/>
            <a:ext cx="0" cy="29718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274320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17" name="CorShape1"/>
          <p:cNvSpPr/>
          <p:nvPr/>
        </p:nvSpPr>
        <p:spPr>
          <a:xfrm rot="10800000">
            <a:off x="7391520" y="449568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aeec8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5)  Solve. -</a:t>
            </a:r>
            <a:r>
              <a:rPr b="1" i="1" lang="en-US" sz="4400" spc="-1" strike="noStrike">
                <a:solidFill>
                  <a:srgbClr val="9966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 - (-2) = 1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94200" y="12049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  </a:t>
            </a:r>
            <a:r>
              <a:rPr b="0" i="1" lang="en-US" sz="4400" spc="-1" strike="noStrike">
                <a:solidFill>
                  <a:srgbClr val="330000"/>
                </a:solidFill>
                <a:latin typeface="Times New Roman"/>
              </a:rPr>
              <a:t>-x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+ 2 = 1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- 2   - 2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-</a:t>
            </a:r>
            <a:r>
              <a:rPr b="0" i="1" lang="en-US" sz="4400" spc="-1" strike="noStrike">
                <a:solidFill>
                  <a:srgbClr val="33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    = -1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i="1" lang="en-US" sz="44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=   1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-(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) + 2 = 1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14300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Draw “the river” to separate the equation into 2 sides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Eliminate the double sign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Subtract 2 from both sides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Simplify vertically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We haven’t gotten x by itself. If we read this aloud, it is “the opposite of x equals -1”. What would x be equal?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Check your answer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457200"/>
            <a:ext cx="0" cy="3733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2743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23" name="CorShape1"/>
          <p:cNvSpPr/>
          <p:nvPr/>
        </p:nvSpPr>
        <p:spPr>
          <a:xfrm rot="10800000">
            <a:off x="7391520" y="449568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 spd="med">
    <p:cut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olve -y – (-3) = 7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orShape1"/>
          <p:cNvSpPr/>
          <p:nvPr/>
        </p:nvSpPr>
        <p:spPr>
          <a:xfrm rot="10800000">
            <a:off x="223560" y="349380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grpSp>
        <p:nvGrpSpPr>
          <p:cNvPr id="227" name="AnswerNow"/>
          <p:cNvGrpSpPr/>
          <p:nvPr/>
        </p:nvGrpSpPr>
        <p:grpSpPr>
          <a:xfrm>
            <a:off x="1447920" y="4876920"/>
            <a:ext cx="2222280" cy="444240"/>
            <a:chOff x="1447920" y="4876920"/>
            <a:chExt cx="2222280" cy="444240"/>
          </a:xfrm>
        </p:grpSpPr>
        <p:sp>
          <p:nvSpPr>
            <p:cNvPr id="228" name="ANShape"/>
            <p:cNvSpPr/>
            <p:nvPr/>
          </p:nvSpPr>
          <p:spPr>
            <a:xfrm>
              <a:off x="1447920" y="4876920"/>
              <a:ext cx="2222280" cy="444240"/>
            </a:xfrm>
            <a:prstGeom prst="ellipse">
              <a:avLst/>
            </a:prstGeom>
            <a:solidFill>
              <a:srgbClr val="727de0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229" name="ANText"/>
            <p:cNvSpPr/>
            <p:nvPr/>
          </p:nvSpPr>
          <p:spPr>
            <a:xfrm>
              <a:off x="1447920" y="48769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w + 14 = -8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y + (-10) = 6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-11 = a + 8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-13 + h = -5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-7 = -16 - k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m - (-13) = 37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z + (-13) = -27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aeec8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1)  Solve r + 16 = -7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this equation as a balance sc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1447920"/>
            <a:ext cx="6297480" cy="4240080"/>
            <a:chOff x="1295280" y="1447920"/>
            <a:chExt cx="6297480" cy="424008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1295280" y="1447920"/>
              <a:ext cx="6297480" cy="42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 txBox="1"/>
            <p:nvPr/>
          </p:nvSpPr>
          <p:spPr>
            <a:xfrm>
              <a:off x="1914120" y="3467160"/>
              <a:ext cx="9813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r + 16</a:t>
              </a:r>
              <a:endPara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6105240" y="3505320"/>
              <a:ext cx="5238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-7</a:t>
              </a:r>
              <a:endPara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4200120" y="3505320"/>
              <a:ext cx="5241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=</a:t>
              </a:r>
              <a:endPara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80880" y="571500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Whatever you do to one side has to be done to the other to keep it balanced!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p - (-27) = 13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41 = 32 + r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d + 16 = 14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x + 15 = -6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aeec8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1) Solve r + 16 = -7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solve, you must get the variable by itself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number is on the same side as 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0093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get r by itself, we must undo the “add 16”. What is the opposite of addi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0093"/>
                </a:solidFill>
                <a:latin typeface="Arial"/>
              </a:rPr>
              <a:t>Subtract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aeec8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03848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- 16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-16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r          = -23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-23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+ 16 = -7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1) Solve r + 16 = -7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981080"/>
            <a:ext cx="85341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1143000"/>
            <a:ext cx="0" cy="29718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“the river” to separate the equation into 2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16 from both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ver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your answer by substituting your answer back into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259092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83" name="CorShape1"/>
          <p:cNvSpPr/>
          <p:nvPr/>
        </p:nvSpPr>
        <p:spPr>
          <a:xfrm rot="10800000">
            <a:off x="7467480" y="434340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76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 Solv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 = -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t the variable by itself.  What is your first step?</a:t>
            </a:r>
            <a:endParaRPr b="1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2044800"/>
            <a:ext cx="5715000" cy="214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2 to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2 from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3 to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3 from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rShape1"/>
          <p:cNvSpPr/>
          <p:nvPr/>
        </p:nvSpPr>
        <p:spPr>
          <a:xfrm rot="10800000">
            <a:off x="71280" y="276984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grpSp>
        <p:nvGrpSpPr>
          <p:cNvPr id="187" name="AnswerNow"/>
          <p:cNvGrpSpPr/>
          <p:nvPr/>
        </p:nvGrpSpPr>
        <p:grpSpPr>
          <a:xfrm>
            <a:off x="1447920" y="4876920"/>
            <a:ext cx="2222280" cy="444240"/>
            <a:chOff x="1447920" y="4876920"/>
            <a:chExt cx="2222280" cy="444240"/>
          </a:xfrm>
        </p:grpSpPr>
        <p:sp>
          <p:nvSpPr>
            <p:cNvPr id="188" name="ANShape"/>
            <p:cNvSpPr/>
            <p:nvPr/>
          </p:nvSpPr>
          <p:spPr>
            <a:xfrm>
              <a:off x="1447920" y="4876920"/>
              <a:ext cx="2222280" cy="444240"/>
            </a:xfrm>
            <a:prstGeom prst="ellipse">
              <a:avLst/>
            </a:prstGeom>
            <a:solidFill>
              <a:srgbClr val="727de0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89" name="ANText"/>
            <p:cNvSpPr/>
            <p:nvPr/>
          </p:nvSpPr>
          <p:spPr>
            <a:xfrm>
              <a:off x="1447920" y="48769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</p:grpSp>
    </p:spTree>
  </p:cSld>
  <p:transition spd="med">
    <p:cut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aeec8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2) Solve </a:t>
            </a:r>
            <a:r>
              <a:rPr b="1" i="1" lang="en-US" sz="4400" spc="-1" strike="noStrike">
                <a:solidFill>
                  <a:srgbClr val="9966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 + 2 = -3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- 2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- 2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x       = -5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-5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+ 2 = -3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“the river” to separate the equation into 2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2 from both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ver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your answer by substituting your answer back into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00760" y="642960"/>
            <a:ext cx="0" cy="29718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198108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95" name="CorShape1"/>
          <p:cNvSpPr/>
          <p:nvPr/>
        </p:nvSpPr>
        <p:spPr>
          <a:xfrm rot="10800000">
            <a:off x="7391520" y="373392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518148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Times New Roman"/>
              </a:rPr>
              <a:t>On homework and tests, be sure to check your work!! </a:t>
            </a:r>
            <a:endParaRPr b="0" lang="en-US" sz="3000" spc="-1" strike="noStrike">
              <a:solidFill>
                <a:srgbClr val="33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Times New Roman"/>
              </a:rPr>
              <a:t>There is no reason why you should miss a problem!</a:t>
            </a:r>
            <a:endParaRPr b="0" lang="en-US" sz="30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 spd="med">
    <p:cut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24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3) Solve  8 = </a:t>
            </a:r>
            <a:r>
              <a:rPr b="1" i="1" lang="en-US" sz="4400" spc="-1" strike="noStrike">
                <a:solidFill>
                  <a:srgbClr val="996600"/>
                </a:solidFill>
                <a:latin typeface="Times New Roman"/>
              </a:rPr>
              <a:t>m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 - 3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 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 =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 = 8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rShape1"/>
          <p:cNvSpPr/>
          <p:nvPr/>
        </p:nvSpPr>
        <p:spPr>
          <a:xfrm rot="10800000">
            <a:off x="390240" y="265068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grpSp>
        <p:nvGrpSpPr>
          <p:cNvPr id="200" name="AnswerNow"/>
          <p:cNvGrpSpPr/>
          <p:nvPr/>
        </p:nvGrpSpPr>
        <p:grpSpPr>
          <a:xfrm>
            <a:off x="1447920" y="4876920"/>
            <a:ext cx="2222280" cy="444240"/>
            <a:chOff x="1447920" y="4876920"/>
            <a:chExt cx="2222280" cy="444240"/>
          </a:xfrm>
        </p:grpSpPr>
        <p:sp>
          <p:nvSpPr>
            <p:cNvPr id="201" name="ANShape"/>
            <p:cNvSpPr/>
            <p:nvPr/>
          </p:nvSpPr>
          <p:spPr>
            <a:xfrm>
              <a:off x="1447920" y="4876920"/>
              <a:ext cx="2222280" cy="444240"/>
            </a:xfrm>
            <a:prstGeom prst="ellipse">
              <a:avLst/>
            </a:prstGeom>
            <a:solidFill>
              <a:srgbClr val="727de0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202" name="ANText"/>
            <p:cNvSpPr/>
            <p:nvPr/>
          </p:nvSpPr>
          <p:spPr>
            <a:xfrm>
              <a:off x="1447920" y="48769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</p:grpSp>
    </p:spTree>
  </p:cSld>
  <p:transition>
    <p:cut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aeec8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3) Solve  8 = </a:t>
            </a:r>
            <a:r>
              <a:rPr b="1" i="1" lang="en-US" sz="4400" spc="-1" strike="noStrike">
                <a:solidFill>
                  <a:srgbClr val="996600"/>
                </a:solidFill>
                <a:latin typeface="Times New Roman"/>
              </a:rPr>
              <a:t>m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 - 3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+ 3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+ 3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11= </a:t>
            </a:r>
            <a:r>
              <a:rPr b="0" i="1" lang="en-US" sz="4400" spc="-1" strike="noStrike">
                <a:solidFill>
                  <a:srgbClr val="0033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8 =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- 3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44792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Draw “the river” to separate the equation into 2 sides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Add 3 to both sides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Simplify vertically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Check your answer by substituting your answer back into the problem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99120" y="642960"/>
            <a:ext cx="0" cy="29718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198108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08" name="CorShape1"/>
          <p:cNvSpPr/>
          <p:nvPr/>
        </p:nvSpPr>
        <p:spPr>
          <a:xfrm rot="10800000">
            <a:off x="7391520" y="373392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aeec8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imes New Roman"/>
              </a:rPr>
              <a:t>When solving equations, we want to eliminate double signs.</a:t>
            </a:r>
            <a:endParaRPr b="1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01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= 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rewritten 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3 =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= 6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rewritten 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=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5654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As a general rule, replace </a:t>
            </a:r>
            <a:r>
              <a:rPr b="1" lang="en-US" sz="2400" spc="-1" strike="noStrike">
                <a:solidFill>
                  <a:srgbClr val="330000"/>
                </a:solidFill>
                <a:latin typeface="Times New Roman"/>
              </a:rPr>
              <a:t>“+ (-  )”</a:t>
            </a: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 with </a:t>
            </a:r>
            <a:r>
              <a:rPr b="1" lang="en-US" sz="2400" spc="-1" strike="noStrike">
                <a:solidFill>
                  <a:srgbClr val="330000"/>
                </a:solidFill>
                <a:latin typeface="Times New Roman"/>
              </a:rPr>
              <a:t>“–” </a:t>
            </a: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330000"/>
                </a:solidFill>
                <a:latin typeface="Times New Roman"/>
              </a:rPr>
              <a:t>“– (-  )”</a:t>
            </a: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 with </a:t>
            </a:r>
            <a:r>
              <a:rPr b="1" lang="en-US" sz="2400" spc="-1" strike="noStrike">
                <a:solidFill>
                  <a:srgbClr val="330000"/>
                </a:solidFill>
                <a:latin typeface="Times New Roman"/>
              </a:rPr>
              <a:t>“+”</a:t>
            </a: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. This will make things less confusing in the future!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4T18:24:24Z</dcterms:created>
  <dc:creator>Skip Tyler</dc:creator>
  <dc:description/>
  <cp:keywords/>
  <dc:language>en-US</dc:language>
  <cp:lastModifiedBy>Parkland High School</cp:lastModifiedBy>
  <cp:lastPrinted>2010-09-21T15:33:36Z</cp:lastPrinted>
  <dcterms:modified xsi:type="dcterms:W3CDTF">2010-09-21T15:34:03Z</dcterms:modified>
  <cp:revision>40</cp:revision>
  <dc:subject/>
  <dc:title>Solving Equations with Addition and Subtraction</dc:title>
</cp:coreProperties>
</file>